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DCE9-6092-46D0-B5AC-D72758084A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51F8-D022-45AC-B489-0E9F2C446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2B37-538D-4A67-975C-1EC4E9DD7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FC59-760E-432B-994D-365FB6C9C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A53D-9D11-4014-9643-3C38AB30D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69F0-4FFC-450E-9E40-0948728B2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15A9-80FA-496F-B2F2-B527BEFE5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D740-0B65-4870-A566-46C0F1C1B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2D38-C3EF-4F40-9304-AE67D0E15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9091-9912-4C9E-AB69-85639B576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8B25-A830-4BAF-B0CA-7AA943CF0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FFB5-3E71-435A-866A-038EA9B41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C387-D2F4-4D91-AB08-FE1C603E9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A283-1685-440E-90E1-6FF4F6DFA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837-6EB9-4A57-80AC-6353889E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991-220E-4FE7-AD25-E064AC17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050-63F7-4B8E-9AA0-6F9CA41F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E6A-59EC-4C3A-9CF8-A90DF899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C0C-4D0C-495F-A577-53167398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420-1CB8-4C56-B6B5-3D27AC9B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1FD-B3A8-49AB-ACAC-626ABAB8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DFF-2842-4855-A928-C5F6F491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34F-3AAA-4A25-8854-702D9C3B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595-3FE0-44A0-82B7-C2F32B08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548-7F75-4E5F-930E-6B178D59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5DC-8295-4ED2-9030-C508054C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83FA-9DB3-40B6-BC24-D039B916A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ederalspace.ru/main.php?id=167" TargetMode="External"/><Relationship Id="rId3" Type="http://schemas.openxmlformats.org/officeDocument/2006/relationships/hyperlink" Target="http://www.federalspace.ru/main.php?id=167" TargetMode="External"/><Relationship Id="rId4" Type="http://schemas.openxmlformats.org/officeDocument/2006/relationships/hyperlink" Target="http://www.federalspace.ru/main.php?id=167" TargetMode="External"/><Relationship Id="rId5" Type="http://schemas.openxmlformats.org/officeDocument/2006/relationships/hyperlink" Target="http://www.federalspace.ru/main.php?id=167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111\Рабочий стол\GE016_350A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mbria"/>
              </a:rPr>
              <a:t>Советские и Российские космонав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угнина Ю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БОУ СОШ № 64 г. Новосиби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http://www.federalspace.ru/img/docs/savitskaya_t.jpg"/>
          <p:cNvPicPr/>
          <p:nvPr/>
        </p:nvPicPr>
        <p:blipFill>
          <a:blip r:embed="rId2"/>
          <a:stretch/>
        </p:blipFill>
        <p:spPr>
          <a:xfrm>
            <a:off x="428760" y="214200"/>
            <a:ext cx="1785960" cy="2643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50920" y="3068640"/>
            <a:ext cx="864396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9 по 27 августа 1982 года в качестве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космонавта-исследователя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КК «Союз Т-7» / «Союз Т-5» и станции ДОС «Салют-7» вместе с Л.Поповым и А.Серебровым по программе второй экспедиции посещения (ЭП-2) первого основного экипажа (ЭО-1) станции «Салют-7» (А.Березовой - В.Лебедев).  Продолжительность полета составила 7 суток 21 час 52 минуты 24 секун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357280" y="50004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Савицкая Светлана Евген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ась 8 августа 1948 года в городе Москва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http://www.federalspace.ru/img/docs/titov_t.jpg"/>
          <p:cNvPicPr/>
          <p:nvPr/>
        </p:nvPicPr>
        <p:blipFill>
          <a:blip r:embed="rId2"/>
          <a:stretch/>
        </p:blipFill>
        <p:spPr>
          <a:xfrm>
            <a:off x="214200" y="214200"/>
            <a:ext cx="18576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79280" y="299736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т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0 по 22 апреля 1983 года в качестве командира КК «Союз Т-8», вместе с Г.Стрекаловым и А.Серебровым. Планировалась длительная работа на борту ДОС «Салют-7» по программе 2-й основной экспедиции (ЭО-2). Однако стыковку выполнить не удалось из-за не исправности антенны системы сближения и стыковки «Игла» на корабле. Продолжительность полета составила 2 суток 00 часов 17 минут 48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2429280" y="642960"/>
            <a:ext cx="63666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Титов Владимир Георг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 января 1947 года в городе Сретен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Читин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http://www.federalspace.ru/img/docs/poleshchuk_t.jpg"/>
          <p:cNvPicPr/>
          <p:nvPr/>
        </p:nvPicPr>
        <p:blipFill>
          <a:blip r:embed="rId2"/>
          <a:stretch/>
        </p:blipFill>
        <p:spPr>
          <a:xfrm>
            <a:off x="500040" y="42876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714760" y="43848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  <a:ea typeface="Times New Roman"/>
              </a:rPr>
              <a:t>Полещук Александр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85840" y="28479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Родился 30 октября 1953 года в городе Черемхово Иркут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24 января по 22 июля 1993 года в качестве бортинженера ТК «Союз ТМ-16» и ОК «Мир» по программе ЭО-13 (13-й основной экспедиции) вместе с Г.Манаковым. Стартовал вместе с Г.Манаковым. Посадку совершил вместе с Г.Манаковым и Жан-Пьером Эньере (Франция). Во время полета совершил два выхода в открытый космос: 19.04.1993 - продолжительностью 5 часов 25 мину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8.06.1993 - продолжительностью 4 часа 33 минут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одолжительность полета составила 179 суток 00 часов 43 минуты 46 секу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79280" y="263700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 июля по 4 ноября 1994 года в качестве бортинженера ТК «Союз ТМ-19» и ОК «Мир» по программе ЭО-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Во время полета совершил два выхода в открытый космос: 09.09.1994 - продолжительностью 5 часов 6 минут.13.09.1994 - продолжительностью 6 часов 1 минута. Продолжительность полета составила 125 суток 22 часа 53 минуты 36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www.federalspace.ru/img/docs/musabaev_t.jpg"/>
          <p:cNvPicPr/>
          <p:nvPr/>
        </p:nvPicPr>
        <p:blipFill>
          <a:blip r:embed="rId2"/>
          <a:stretch/>
        </p:blipFill>
        <p:spPr>
          <a:xfrm>
            <a:off x="285840" y="28584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357280" y="357120"/>
            <a:ext cx="65725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Мусабаев Талгат Амангельди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7 января 1951 года в селе Каргалы Джамбульского района Алма-Атинской области Казах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714240" y="92880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80000" y="928800"/>
            <a:ext cx="853524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пользованная литература находится на этом сай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4"/>
              </a:rPr>
              <a:t>www.federalspace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5"/>
              </a:rPr>
              <a:t>/main.php?id=1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http://www.federalspace.ru/img/docs/gagarin_t.jpg"/>
          <p:cNvPicPr/>
          <p:nvPr/>
        </p:nvPicPr>
        <p:blipFill>
          <a:blip r:embed="rId2"/>
          <a:stretch/>
        </p:blipFill>
        <p:spPr>
          <a:xfrm>
            <a:off x="857160" y="357120"/>
            <a:ext cx="2997360" cy="3648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50920" y="386064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одился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 марта 1934 года в селе Клушино Гжатского (ныне - Гагаринского) района Смоленской области, РСФСР (Росс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924360" y="83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Гагар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Юрий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http://www.federalspace.ru/img/docs/titov_g_t.jpg"/>
          <p:cNvPicPr/>
          <p:nvPr/>
        </p:nvPicPr>
        <p:blipFill>
          <a:blip r:embed="rId2"/>
          <a:stretch/>
        </p:blipFill>
        <p:spPr>
          <a:xfrm>
            <a:off x="285840" y="357120"/>
            <a:ext cx="221436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285840" y="3214800"/>
            <a:ext cx="8572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11 сентября 1935 года в селе Верхнее Жилино Косихинского района Алтайского края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6 по 7 августа 1961 года в качестве пилота КК «Восток-2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зывной: «Орел». Выполнил первый в мире космический полет длительностью более суток. Продолжительность полета составила 1 сутки 01 час 18 мин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214800" y="428760"/>
            <a:ext cx="521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Ти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Герман Степан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http://www.federalspace.ru/img/docs/tereshkova_t.jpg"/>
          <p:cNvPicPr/>
          <p:nvPr/>
        </p:nvPicPr>
        <p:blipFill>
          <a:blip r:embed="rId2"/>
          <a:stretch/>
        </p:blipFill>
        <p:spPr>
          <a:xfrm>
            <a:off x="214200" y="214200"/>
            <a:ext cx="1928880" cy="2214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14200" y="2714760"/>
            <a:ext cx="864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смический полет совершила 16 - 19 июня 1963 года в качестве командира КК «Восток-6» по программе группового полета с кораблем «Восток-5», пилотируемым Валерием Быковским. Продолжительность полета составила 2 суток 22 часа 50 мину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В 1965 - 1966 годах проходила подготовку в группе к полету на КК «Восход». В 1978 году, после возобновления идеи женского полета, прошла ГМК и получила допуск к специальной подготов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Отчислена из отряда космонавтов в связи с достижением предельного возраста приказом МО от 30 апреля 1997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357280" y="428760"/>
            <a:ext cx="65008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Терешк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Валенти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ась 6 марта 1937 года в деревне Масленнико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утаевского района Ярославской области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http://www.federalspace.ru/img/docs/leon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571760" cy="1643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85840" y="192888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30 мая 1934 года в селе Листвянка Тисульского района Кемеровской области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 18 по 19 марта 1965 года в качестве второго пилот КК «Восход-2», вместе с Павлом Беляевым. В ходе полета совершил первый в мире выход в открытое космическое пространство продолжительностью 23 минуты 41 секунда (из них 12 минут 09 секунд вне корабля, удалялся от корабля на 5,35 метра). При выходе возникли несколько нештатных ситуаций, рассказ о которых самого Леонова можно прочитать в приложении. Продолжительность полета составила 1 сутки 02 часа 02 минуты 17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499120" y="357120"/>
            <a:ext cx="540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Леонов Алексей Архип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http://www.federalspace.ru/img/docs/grechko_t.jpg"/>
          <p:cNvPicPr/>
          <p:nvPr/>
        </p:nvPicPr>
        <p:blipFill>
          <a:blip r:embed="rId2"/>
          <a:stretch/>
        </p:blipFill>
        <p:spPr>
          <a:xfrm>
            <a:off x="285840" y="214200"/>
            <a:ext cx="2071440" cy="2500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250920" y="30686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1 января по 9 февраля 1975 года в качестве бортинженера КК «Союз-17» и первой основной экспедиции на ДОС-4 «Салют-4», вместе с А.Губаревым. Позывной: «Зенит-2». Продолжительность полета составила 29 суток 13 часов 19 минут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2129040" y="357120"/>
            <a:ext cx="67629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Гречко Георгий Михайл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25 мая 1931 года в городе Ленинград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http://www.federalspace.ru/img/docs/rumin_t.jpg"/>
          <p:cNvPicPr/>
          <p:nvPr/>
        </p:nvPicPr>
        <p:blipFill>
          <a:blip r:embed="rId2"/>
          <a:stretch/>
        </p:blipFill>
        <p:spPr>
          <a:xfrm>
            <a:off x="500040" y="285840"/>
            <a:ext cx="1571760" cy="192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468360" y="2781360"/>
            <a:ext cx="821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С 9 по 11 октября 1977 года в качестве бортинженера КК «Союз-25», вместе с В.Коваленком. Программа 96-суточного полета была не выполнена, так как стыковку с ОС не удалось осуществить ни в автоматическом, ни в ручном режимах. Продолжительность полета составила 2 суток 00 часов 44 минуты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286000" y="4287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Рюмин Валерий Викт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6 августа 1939 года в горо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мсомольск-на-Амуре Хабаровского края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http://www.federalspace.ru/img/docs/liah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785960" cy="2000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79280" y="25653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5 февраля по 19 августа 1979 года в качестве командира 3-й основной экспедиции на ДОС «Салют-6», вместе с В.Рюминым. Во время полёта выполнил внеплановый выход в открытый космос для отделения зацепившейся за конструкцию станции антенны радиотелескопа КРТ-10: 15.08.1979 продолжительностью 1 час 23 минут. Продолжительность полета составила 175 суток 00 часов 35 минут 37 секу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428920" y="357120"/>
            <a:ext cx="6369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Ляхов Владимир Афанас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20 июля 1941 года в городе Антрац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орошиловградской (Луганской) области, УС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http://www.federalspace.ru/img/docs/popov_t.jpg"/>
          <p:cNvPicPr/>
          <p:nvPr/>
        </p:nvPicPr>
        <p:blipFill>
          <a:blip r:embed="rId2"/>
          <a:stretch/>
        </p:blipFill>
        <p:spPr>
          <a:xfrm>
            <a:off x="285840" y="214200"/>
            <a:ext cx="178596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24000" y="2565360"/>
            <a:ext cx="85010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9 апреля по 11 октября 1980 года в качестве командира 4-й основной экспедиции (ЭО-4) на ДОС «Салют-6», вместе с Валерием Рюминым. Стартовал на ТК «Союз-35», посадка на ТК «Союз-37». Продолжительность полета составила 184 суток 20 часов 11 минут 3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28920" y="285840"/>
            <a:ext cx="63579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Попов Леонид 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31 августа 1945 года в городе Александ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ировоградской области Украин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34:48Z</dcterms:created>
  <dc:creator>111</dc:creator>
  <dc:description/>
  <dc:language>en-US</dc:language>
  <cp:lastModifiedBy>Customer</cp:lastModifiedBy>
  <dcterms:modified xsi:type="dcterms:W3CDTF">2011-04-07T02:06:00Z</dcterms:modified>
  <cp:revision>27</cp:revision>
  <dc:subject/>
  <dc:title>Советские и Российские космонавты</dc:title>
</cp:coreProperties>
</file>